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88CD-8AB8-4F92-9D49-76A66011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EF45-CA0A-495E-B86B-587DACB9E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45B-75F5-440F-8CB5-705FFDF9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BD2-A62A-4FA9-B9AA-47BA028C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A75-60B5-4E7B-96EA-4DF82C33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CB9-B537-416F-80F8-B0500574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189-A948-416E-8630-184728A6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9D0-AE30-4709-9AE2-4223374E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832-5C79-4B8B-8315-64D37D3C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F5A-9DBA-47DA-92C0-1FCD5A75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89B-9C6F-481A-8B09-89C64BC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278-2B97-4D80-8369-599F1990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721-4C9F-4E64-8F3A-29842FA5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FF9-9EE4-44FB-BBA0-0EBCCB7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3532-A62D-4D0F-941A-A3492DA3F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5 The International Date Line is approximately ___ degrees from the Prime Merid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6 An area with one or more unique and distinguishing characteristics is called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oc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6 An area with one or more unique and distinguishing characteristics is called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oc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8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creases consumer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romotes the maintenance of tradit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enefits some countries more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creases communication across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ightly controlled by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8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creases consumer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romotes the maintenance of tradit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enefits some countries more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creases communication across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ightly controlled by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9 The frequency an object appears in a given area is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lativ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9 The frequency an object appears in a given area is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lativ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10 That the physical environment causes social development is the core concep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rela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ossibi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ltural e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vironmental determ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imul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10 That the physical environment causes social development is the core concep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rela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ossibi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ltural e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nvironmental determ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imul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9 If an area has objects in it that are tightly arranged, it is said to be wha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1 Which map would have the largest sc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9 If an area has objects in it that are tightly arranged, it is said to be wha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us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read of something over a given study are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828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read of something over a given study are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7524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ngement of a phenomenon across Earth’s surfac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ngement of a phenomenon across Earth’s surfac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t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tial distribution created by the U.S. Land Ordinance of 1785 is an exampl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tial distribution created by the U.S. Land Ordinance of 1785 is an exampl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erm for the phenomenon that the farther a feature moves from a hearth, the less dominant it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ic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 occup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erm for the phenomenon that the farther a feature moves from a hearth, the less dominant it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ic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nc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 occup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ce-time 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duction in time it takes for something to reach anothe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t places seem less remote and more accessible to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more about what’s happening in the world, and we know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1 Which map would have the largest sc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-Time Compression, 1492-196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17680" y="5972040"/>
            <a:ext cx="816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3840" indent="-1023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g. 1-20: The times required to cross the Atlantic, or orbit the earth, illustrate how transport improvements have shrunk the wor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542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line Route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5800" y="5943600"/>
            <a:ext cx="759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3840" indent="-1023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g. 1-21: Continental Airlines, like many others, has configured its route network in a “hub and spoke”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"/>
          <p:cNvPicPr/>
          <p:nvPr/>
        </p:nvPicPr>
        <p:blipFill>
          <a:blip r:embed="rId1"/>
          <a:stretch/>
        </p:blipFill>
        <p:spPr>
          <a:xfrm>
            <a:off x="1371600" y="1082520"/>
            <a:ext cx="67816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4 This climat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und in the continental United St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umid sub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umid contin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umid 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diterran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rine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4 This climat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und in the continental United St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umid sub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umid contin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Humid 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diterran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rine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01_14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7 The movement of money from one country to another and one currency to another has primarily been facilit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leadership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dvances in electronic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lobal agreements brokered by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7 The movement of money from one country to another and one currency to another has primarily been facilit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leadership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Advances in electronic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lobal agreements brokered by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2 A place’s location relative to other objects or places is called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bsolut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ative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2 A place’s location relative to other objects or places is called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bsolut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it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ative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3 An object at 90 degrees north latitud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t the North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n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t the Tropic of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t the Tropic of Capri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loser to Australia than 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3 An object at 90 degrees north latitud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t the North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n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t the Tropic of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t the Tropic of Capri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loser to Australia than 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01_08"/>
          <p:cNvPicPr/>
          <p:nvPr/>
        </p:nvPicPr>
        <p:blipFill>
          <a:blip r:embed="rId1"/>
          <a:stretch/>
        </p:blipFill>
        <p:spPr>
          <a:xfrm>
            <a:off x="2286000" y="609480"/>
            <a:ext cx="4648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5 The International Date Line is approximately ___ degrees from the Prime Merid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cp:lastPrinted>2012-09-20T00:07:21Z</cp:lastPrinted>
  <dcterms:modified xsi:type="dcterms:W3CDTF">2013-09-21T00:59:08Z</dcterms:modified>
  <cp:revision>94</cp:revision>
  <dc:subject/>
  <dc:title>CRS Chapter 4</dc:title>
</cp:coreProperties>
</file>